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5AF8C3E-7DB6-4BF7-814E-F640191406BD}"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DA3CCF1-2854-47E5-8F00-4B7B4964196B}"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0CD63-D6CE-4DBB-8E8F-8FF1E00D2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54C90-EAAD-4B96-9BAD-76E4AADBF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A9B86-CB8D-4FA2-B6AC-E4F26A482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1089D-C5CE-430F-8F77-C0BDC8922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379A5-6E7E-423C-97C2-28CF12532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EB74E-E81C-4CCA-887F-E9139E76B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DF7AA-7D6D-4ACC-A7D0-D604A60F5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DB365-B11E-4DE9-BBBA-C8D419CD1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1529A-AF38-4A82-B3E8-4338F2868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FECA6-C503-498C-BEDB-C4731F3CF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83FF4-0BEF-48D8-967F-AB52637F1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428BD-4716-4C68-9286-587363F3C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EE35-ABE7-4404-87C0-54BD4CCBC6E5}"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5380200" y="617400"/>
            <a:ext cx="35654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61A0-175F-4122-A3CA-2FF5F6D1F21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D200-DABA-4397-A84B-80C85EAAE4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B36F-64D2-40CD-8B10-9FFA1123E51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4D18-D2F8-4E8E-8065-83C6442961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D049-C9E7-459B-8046-C40EDA3749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61C7-76F1-4127-AFE4-65F2523B2F1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A683-347C-4C35-B6A8-B7CA295563A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355C-62FD-4B4B-86EB-4A86EF2308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1135-98A9-4880-BBDB-3A04D1F2749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0048-E68E-4C63-805B-F5A601AB521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A284-DB6B-47DE-A54A-6C70F7648B5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7F72-2F3D-4C4F-B332-38F80B837C8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8EEB-0A43-4EEE-8C4F-965EB63AD32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C795-250E-4387-983F-4F8BB512B7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8A4C9-2FDD-4FBD-AB74-C97166228C4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CB0C-E338-4725-8914-9C97597E4FE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5886-9158-457A-AF6E-1BBCA80D30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D802-5650-4C3A-A9B5-F2F2F2168D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732E-B611-41B6-8EAE-824E301B0B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94C6-582A-45A6-9831-A08311753EE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1700-8950-43B1-99ED-4E8999E36A0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74C1-41CF-4512-86B3-C073E460522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6F6C-7DB9-4741-9784-0144F8692CC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C1B6-0FC2-4BE0-B1AD-D21FE0DFD0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3738-2610-492E-871B-926C5CBD823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089D-430C-4A55-8EA2-7C35303370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5B8B-C597-47D4-8710-365C79305EA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1B87-8443-4E02-B663-3A230AFB237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E648-41E0-40F4-ACED-CBB25670820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0295-9573-4C0F-B473-A671FCEB214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A7F7-D7B8-4BFB-95D7-677F0C4790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9EF4-204E-4297-BC1F-419908BD44F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5904-290C-4B3E-AF5C-66891C2DB2E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8D75-4A9B-4652-A8C8-94818E7675A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3F83-91B3-4DBB-BDA7-EB29A2F8022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25F3-E46C-492A-8474-E0A6931F4F5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DE5A-22BA-4B41-B9C7-B5404F67646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32E4-2962-40D3-B4AB-5F14623AFE1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7871-0014-4EB1-8605-271B77E3A8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8485-B1F9-4039-9004-8F4D9332649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7E06-9474-4487-9412-A316078D99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8-01-23T11:29:01Z</dcterms:modified>
  <cp:revision>72</cp:revision>
  <dc:subject/>
  <dc:title>Aims and Objectives</dc:title>
</cp:coreProperties>
</file>